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5BD5-36B4-4989-A762-F968D4B90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DDFE-11D2-4F44-A842-51A51D35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4D3A-87D5-4008-B51A-22BE6295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5586-0777-4443-AEC8-0152DD60D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8C44-A440-4FA1-ACB5-31B11155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55A0-2C30-48D6-BBAB-6F136912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B109-780C-40AE-94AD-8FCFE952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9250-532C-45D4-A4F7-86E7E905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35CD-A183-460B-883A-838ED7AA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F420-01F3-4B63-9F10-EAC9ECB9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E622-4DD0-4324-95CD-82FD0071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7E1C-BCF5-491E-AF00-EEED64ED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19B6-A322-4DEA-9D9F-6439A5265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30477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42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4T19:58:37Z</dcterms:created>
  <dc:creator>Maxwell Matt</dc:creator>
  <dc:description/>
  <dc:language>en-US</dc:language>
  <cp:lastModifiedBy>Maxwell Matt</cp:lastModifiedBy>
  <dcterms:modified xsi:type="dcterms:W3CDTF">2008-11-12T19:37:41Z</dcterms:modified>
  <cp:revision>2</cp:revision>
  <dc:subject/>
  <dc:title>PowerPoint Presentation</dc:title>
</cp:coreProperties>
</file>