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07C3-5B1D-4152-B0F3-C2E6D7DC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CC19-629B-460A-9085-06733AD1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6F8-B42F-4E8F-891F-8707BE9C8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942F-E043-4AB9-BA5C-6EF55715C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C43E-7099-4F4D-A730-AB13A375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D421-3798-425F-8ECF-ECE8360D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1B30-60AE-4D49-B13F-6F5A4749B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4D7D-5E33-4A8A-91F0-3783AE49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FE8-F3DF-423B-B3F2-FF3E0438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B74-D679-4734-93C0-C9838B98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7E0-191B-44E0-937F-F1755BE6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A309-649A-426D-A1BE-708BE326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5456-EE1A-4D5F-9499-DEDCF7B693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9:58:37Z</dcterms:created>
  <dc:creator>Maxwell Matt</dc:creator>
  <dc:description/>
  <dc:language>en-US</dc:language>
  <cp:lastModifiedBy>Maxwell Matt</cp:lastModifiedBy>
  <dcterms:modified xsi:type="dcterms:W3CDTF">2008-11-12T19:37:41Z</dcterms:modified>
  <cp:revision>2</cp:revision>
  <dc:subject/>
  <dc:title>PowerPoint Presentation</dc:title>
</cp:coreProperties>
</file>