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DFBF-9289-4CBC-8409-E82D2300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1CCF-22EE-4FAB-B026-44C9E784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51F7-7B51-4DF9-A0F2-4829AA643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C43-142B-40F0-B613-C6AF3E32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461-D8A8-4683-B2E5-1806DDDF8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84C-09A1-4753-9F7D-F6FE317C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C2CE-D5E7-4634-8B0B-A3A3ECD8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59A-62A0-4A43-B979-E4FBA054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E22C2-F174-43F2-A08E-67B2893F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B26E-FA59-4677-BF4D-3A0C3007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FBC8-B0B8-4453-A7DD-EEEBFBD1B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0226-2A7E-4699-87B0-A325A14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9CF6D-147D-4F3C-B614-31C096974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4T19:58:37Z</dcterms:created>
  <dc:creator>Maxwell Matt</dc:creator>
  <dc:description/>
  <dc:language>en-US</dc:language>
  <cp:lastModifiedBy>Maxwell Matt</cp:lastModifiedBy>
  <dcterms:modified xsi:type="dcterms:W3CDTF">2008-11-12T19:37:41Z</dcterms:modified>
  <cp:revision>2</cp:revision>
  <dc:subject/>
  <dc:title>PowerPoint Presentation</dc:title>
</cp:coreProperties>
</file>