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B19-A2DB-4DA4-8F58-CF2580BC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7B2-BF4E-431D-8AB9-E6EBFA25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BEAE-9834-4A7F-9178-21369A62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5AF-7032-41AC-82B6-514C2C33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643-B8C2-4013-8AEB-19D36BCF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2E5-F3FF-4232-8039-99F4C693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E81-CE02-4CE5-832F-9A2F0216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26D-A93D-4013-84B0-4ADC9FDA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EE5-1DDE-4871-AE20-392C0763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5C4-CC91-4928-A0A8-D46A34CB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1EC-9392-4152-A6B0-355924E0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6EC-4CF7-4E58-9E99-60D18D0C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6DCC-B7E1-4E41-B18E-7B995B8B9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9:58:37Z</dcterms:created>
  <dc:creator>Maxwell Matt</dc:creator>
  <dc:description/>
  <dc:language>en-US</dc:language>
  <cp:lastModifiedBy>Maxwell Matt</cp:lastModifiedBy>
  <dcterms:modified xsi:type="dcterms:W3CDTF">2008-11-12T19:37:41Z</dcterms:modified>
  <cp:revision>2</cp:revision>
  <dc:subject/>
  <dc:title>PowerPoint Presentation</dc:title>
</cp:coreProperties>
</file>