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DFF-EC85-4CBD-9017-B2145053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4FF9-AD58-4733-8689-D9D044FD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E55-9189-4A2C-B5DA-9C4FC531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1EC-7DBE-457A-B812-C298F8DE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F57-C29A-48FA-A06C-44840B7D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6DB-D776-4008-BE26-5BCD5933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22F-30E5-4FDE-A0FE-E6A3C2EA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D0AF-25DA-44B1-8E70-2D4C9699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DDD-3005-4597-96CC-5E35EAE5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92B-F7FC-43B8-92A7-4E5F6760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BBF-0058-4AD4-B2CF-7A2BB90C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540B-E8C3-4EF6-9E8C-4C0291A7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25FF-9740-4021-BCCF-B825A1441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047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4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4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7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29:06Z</dcterms:created>
  <dc:creator>Maxwell Matt</dc:creator>
  <dc:description/>
  <dc:language>en-US</dc:language>
  <cp:lastModifiedBy>Maxwell Matt</cp:lastModifiedBy>
  <dcterms:modified xsi:type="dcterms:W3CDTF">2009-01-23T16:35:00Z</dcterms:modified>
  <cp:revision>1</cp:revision>
  <dc:subject/>
  <dc:title>PowerPoint Presentation</dc:title>
</cp:coreProperties>
</file>