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D28A-5A63-45B5-B369-85B9C3332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79C1-FB60-451E-B510-EC57B3F97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16C-433F-4517-B5D9-ED7E13F1A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D6C72-8B13-42C5-A0A4-ADD34ACC1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D6C-13E4-4D54-AB4E-6C31BEAF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335F-D069-4A4D-A402-E8E6C5DE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0981-F727-4156-BE3A-34A32F80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D89A-FE2D-4508-AA55-52C2E6E2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3830-A205-4213-A6FF-AE8F01D1A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D99-C38D-4CC4-BB8E-06B219179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1DF2-8489-42FF-88C9-62491E2F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4DD-8754-49B8-9FA3-2DF19C2F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4C6E-C4AD-4292-9ADC-4A0947F795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29:06Z</dcterms:created>
  <dc:creator>Maxwell Matt</dc:creator>
  <dc:description/>
  <dc:language>en-US</dc:language>
  <cp:lastModifiedBy>Maxwell Matt</cp:lastModifiedBy>
  <dcterms:modified xsi:type="dcterms:W3CDTF">2009-01-23T16:35:00Z</dcterms:modified>
  <cp:revision>1</cp:revision>
  <dc:subject/>
  <dc:title>PowerPoint Presentation</dc:title>
</cp:coreProperties>
</file>