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FA5-7506-449D-9E71-01A289CF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895-D647-4828-B55B-00383405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293-1C77-4A50-AF37-A230E278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4E3-288A-4BB4-A739-5D2BEB71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1D0-1AC2-46DA-BD94-BEFB9AE3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F66-528A-40EF-9452-0E1FDA58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4F0-2FAC-402C-9BFF-300F7C71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D6B-59D5-4F76-916C-52947833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E9D-71B1-4DCD-8492-525DBBA8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EFA-BC70-457C-AB4D-FE09BC3C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3BA-8B1B-4731-AEBE-0422C258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741-E870-45EF-91F7-147C4222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A052-698E-4FE9-9097-7EF99C2E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7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29:06Z</dcterms:created>
  <dc:creator>Maxwell Matt</dc:creator>
  <dc:description/>
  <dc:language>en-US</dc:language>
  <cp:lastModifiedBy>Maxwell Matt</cp:lastModifiedBy>
  <dcterms:modified xsi:type="dcterms:W3CDTF">2009-01-23T16:35:00Z</dcterms:modified>
  <cp:revision>1</cp:revision>
  <dc:subject/>
  <dc:title>PowerPoint Presentation</dc:title>
</cp:coreProperties>
</file>