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47BA-5018-43B1-B6AD-6FBAE95B8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98A7-39B9-436D-BFFC-9D46276E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2DDB-9B0B-4321-9D1D-ED4A65B8A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E09-98C2-4887-83E7-A137FDC81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5A48-43DF-48E3-93B8-357E9606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B4B-96BD-4BE5-B719-146AD240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345B-D1CE-4ED0-8DCD-4FC6EBF5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B69A-2CCD-4B7C-941E-D698CF12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DA83-E22D-4F27-B609-445669E7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A1DA-FADF-4BA0-998F-4DAB8606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0C8-F948-4EAC-873B-0FEDE2CE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61AF-2421-49F9-87E9-0E9DB72B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ABF14-3EA8-467E-A04E-B36F6FDFA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304776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4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7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0660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16:29:06Z</dcterms:created>
  <dc:creator>Maxwell Matt</dc:creator>
  <dc:description/>
  <dc:language>en-US</dc:language>
  <cp:lastModifiedBy>Maxwell Matt</cp:lastModifiedBy>
  <dcterms:modified xsi:type="dcterms:W3CDTF">2009-01-23T16:35:00Z</dcterms:modified>
  <cp:revision>1</cp:revision>
  <dc:subject/>
  <dc:title>PowerPoint Presentation</dc:title>
</cp:coreProperties>
</file>